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2.wmf" ContentType="image/x-wmf"/>
  <Override PartName="/ppt/media/image4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22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6.png" ContentType="image/png"/>
  <Override PartName="/ppt/media/camera.wav" ContentType="audio/x-wav"/>
  <Override PartName="/ppt/media/image26.jpeg" ContentType="image/jpeg"/>
  <Override PartName="/ppt/media/image1.png" ContentType="image/png"/>
  <Override PartName="/ppt/media/image25.jpeg" ContentType="image/jpeg"/>
  <Override PartName="/ppt/media/image3.png" ContentType="image/png"/>
  <Override PartName="/ppt/media/image24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B1E1-34AE-426D-A593-77295EC20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85FD-2E54-46D5-ACEA-158F4DC9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142D-9590-492C-8578-754F1933A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8AB3-9940-4458-98FA-C2953B4F1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72B0-F96E-45F2-AA32-83C1FBC06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82A1-5AA9-4AAA-A4A8-2357325B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A90C-C544-47BE-BF8A-6A5640D6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A1095-1C12-43CF-A335-B58DDE9A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0C63-6B91-4356-A3D0-4ECF3C09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89D2-7809-41B5-B1B7-5DAD8A78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7BE8-3F6D-4738-B8D7-D3DE9DA6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8BEE-99F9-4988-B883-E0678C8D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94B0-5153-469C-980E-6364C351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500F-E810-44C9-94CE-0E30C824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CD57-728A-4695-937E-718ED07D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FA6E-8D59-481A-AD67-D5D72D18B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82BC-1DAE-44FB-BB61-37D11ED30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3E80F-6567-4C49-B23D-A2227ECBA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BDE40-6A21-4A19-B175-5EF1DA7C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25BEE-040B-4DC4-A391-5C9BC2DB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4E426-A123-41C2-AF99-8548713D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33C1F-A5D6-4C98-9220-1BF4ACA3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E2DC-AB7E-4E1C-BFB3-A6B33B3A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7605B-B855-4F9E-812D-59475AE4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FB034-3ABA-47F3-A00F-622516DA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BE42A-9725-48F3-AFE9-3301DEC2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A687A-90B3-41D1-AD20-247B8535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B089D-50CB-4710-91AC-DB624C12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93659-DFAF-4595-AF09-2A49D3272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06510-13BC-4931-A412-053EB415F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8E389-436F-4B2A-8DFD-0736DCB2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1A5D9-3E03-4492-B4DC-D5FA2FE8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3FD8F-285E-4DA1-8F2F-902F9846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A98D-3875-4559-8B0E-EDFBC6CD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42D93-565B-4142-9ED3-A7E6DD5B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1B184-D52A-4A5E-91C7-0D6BF831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88414-4E4C-40F3-B1C1-B3CD1DB9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8D1EC-B2FC-4B41-B31D-D858A1AD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39389-2078-4A04-BE69-EB9E1792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E0D48-5B55-44DF-986B-BFDB0840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23A0C-062A-407A-A2C3-BA9F4B35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AACF8-91B3-4A05-B851-8E261C698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9C0E0-77D6-4E57-9B67-0776957A7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2DED4-0035-462F-98F6-4F4BBD0D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C7BB-B1C8-4C01-98A6-816DFE1C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981C3-7F85-49DB-A439-FAF09387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3CC97-4444-40AB-8B07-365E5F3C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8A17D-711B-4FD5-A5AF-563CDFD7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DB664-8A80-4BAA-83BD-6ABA7441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A8D5E-A054-408E-9380-DBB37BF6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AEA81-C167-40B0-B71F-DB2171F4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9BBBC-1531-4DE7-B5AE-5581412B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7CDFB-55C7-43F5-9E6A-5236A438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0842A-CB06-4922-B4EF-0DA58FA6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6BE56-26F2-4239-AE26-5E89C59F1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7C08-A9D0-4A5F-9A64-E19B2C90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C0008-6414-4A2B-97C1-B32AEF1B7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F5951-FF57-448F-A175-C6E0B4851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51BDA-492C-4E3F-86EE-67037F77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04D2B-BB52-4CE9-AE25-0006685A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D407A-3792-40E9-9338-B70A1BB2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BCABE-F44C-455D-83D0-EA18068B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71F31-CF93-42E6-8E3F-FA2F5CFE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D08B1-DF8A-4570-85E6-9100D77C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58817-8102-4FC6-9F05-AE9646D9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D61F3-8AF4-41C5-96A8-C537235B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14C6-61FF-44F6-844E-9564667C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47D4B-DC88-4945-AA61-66B3FB0E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157BE-86FB-4130-99B4-61AD89D1E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C6A54-EC93-489B-B45F-3B0820FD5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B48BA-F8EF-47CC-ADB7-DE10D521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267E0-7D2F-418B-BB18-9E72A44F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1DB8D-3FBC-470C-9655-496703D2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AB5B1-F497-495C-84FA-9302F857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10D5B-197B-4AC2-B7AD-C33CFEEB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CC30C-FEEE-4EC3-B724-81C12D3D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045C6-34D2-44E4-BDB5-5CD76349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9BDF-0C73-4F9D-875D-1B9BCE35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E4FBA-D51A-4372-B750-88DBE863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57609-5EC2-434C-8120-50169BAC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1A6A8-8DCD-4F06-8DAC-B8DC2B41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90FAF-62F0-4EBF-A929-DC6075FB2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709FC-ABC4-48A8-BC7E-7762D4EFA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28E0-3F5D-4AD4-96DB-4385EBB8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2C97-9D43-4B2B-A002-2DE4DF9DF17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B878-DE3C-412E-BA11-8A6382356907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22FC-2136-4DB1-AEE3-93DB4F48F8D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9E6A-E45F-4BA0-BAD6-340EE964D149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188F-C6CB-41E0-B9B8-939EDD4A112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B4C9-2D37-4734-9194-73B00B5BAD3A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253E-B258-4217-A4B5-0B3D2DDEB640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itle 1" descr=""/>
          <p:cNvPicPr/>
          <p:nvPr/>
        </p:nvPicPr>
        <p:blipFill>
          <a:blip r:embed="rId1"/>
          <a:stretch/>
        </p:blipFill>
        <p:spPr>
          <a:xfrm>
            <a:off x="450720" y="30240"/>
            <a:ext cx="8242560" cy="1738080"/>
          </a:xfrm>
          <a:prstGeom prst="rect">
            <a:avLst/>
          </a:prstGeom>
          <a:ln w="0">
            <a:noFill/>
          </a:ln>
        </p:spPr>
      </p:pic>
      <p:pic>
        <p:nvPicPr>
          <p:cNvPr id="302" name="Content Placeholder 4" descr="oldproj1.jpg"/>
          <p:cNvPicPr/>
          <p:nvPr/>
        </p:nvPicPr>
        <p:blipFill>
          <a:blip r:embed="rId2"/>
          <a:stretch/>
        </p:blipFill>
        <p:spPr>
          <a:xfrm>
            <a:off x="1066680" y="2209680"/>
            <a:ext cx="6934320" cy="464832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  <p:sndAc>
      <p:stSnd>
        <p:snd r:embed="rId3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entury Gothic"/>
              </a:rPr>
              <a:t>In 1909, Albert Howell &amp; Donald Bell-First Camera- Made by cast aluminum, a four lens turret and a rack-over system, giving precise through- the –lens –viewing and focusing, It had a 400ft twin compartment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31" name="Content Placeholder 5" descr="v25_sled_docked%20smaller.jpg"/>
          <p:cNvPicPr/>
          <p:nvPr/>
        </p:nvPicPr>
        <p:blipFill>
          <a:blip r:embed="rId2"/>
          <a:stretch/>
        </p:blipFill>
        <p:spPr>
          <a:xfrm>
            <a:off x="533520" y="3429000"/>
            <a:ext cx="2438280" cy="32767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chrpoche.jpg"/>
          <p:cNvPicPr/>
          <p:nvPr/>
        </p:nvPicPr>
        <p:blipFill>
          <a:blip r:embed="rId3"/>
          <a:stretch/>
        </p:blipFill>
        <p:spPr>
          <a:xfrm>
            <a:off x="3657600" y="1828800"/>
            <a:ext cx="2286000" cy="18399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darling.jpg"/>
          <p:cNvPicPr/>
          <p:nvPr/>
        </p:nvPicPr>
        <p:blipFill>
          <a:blip r:embed="rId4"/>
          <a:stretch/>
        </p:blipFill>
        <p:spPr>
          <a:xfrm>
            <a:off x="3124080" y="3809880"/>
            <a:ext cx="2438640" cy="28720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8" descr="oldproj1.jpg"/>
          <p:cNvPicPr/>
          <p:nvPr/>
        </p:nvPicPr>
        <p:blipFill>
          <a:blip r:embed="rId5"/>
          <a:stretch/>
        </p:blipFill>
        <p:spPr>
          <a:xfrm>
            <a:off x="6172200" y="1905120"/>
            <a:ext cx="2286000" cy="21333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pathe28.jpg"/>
          <p:cNvPicPr/>
          <p:nvPr/>
        </p:nvPicPr>
        <p:blipFill>
          <a:blip r:embed="rId6"/>
          <a:stretch/>
        </p:blipFill>
        <p:spPr>
          <a:xfrm>
            <a:off x="609480" y="1600200"/>
            <a:ext cx="2590920" cy="17524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0" descr="pathstud.jpg"/>
          <p:cNvPicPr/>
          <p:nvPr/>
        </p:nvPicPr>
        <p:blipFill>
          <a:blip r:embed="rId7"/>
          <a:stretch/>
        </p:blipFill>
        <p:spPr>
          <a:xfrm>
            <a:off x="5638680" y="4267080"/>
            <a:ext cx="3143520" cy="233064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8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ttp://www.duallcamera.com/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ttp://www.xs4all.nl/~wichm/pathstud.jp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ttp://www.cinematographers.nl/CAMERAS1.ht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b0f0"/>
                </a:solidFill>
                <a:uFillTx/>
                <a:latin typeface="Century Gothic"/>
              </a:rPr>
              <a:t>http://answers.ask.com/Entertainment/movies/what-was-the-first-movie-ever-mad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b0f0"/>
                </a:solidFill>
                <a:uFillTx/>
                <a:latin typeface="Century Gothic"/>
              </a:rPr>
              <a:t>http://wiki.answers.com/Q/when_was_the_movie_camera_invented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1882440"/>
            <a:ext cx="822960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afd1"/>
                </a:solidFill>
                <a:latin typeface="Century Gothic"/>
              </a:rPr>
              <a:t>Who invented the first movie camera? </a:t>
            </a:r>
            <a:r>
              <a:rPr b="0" lang="en-US" sz="2000" spc="-1" strike="noStrike">
                <a:solidFill>
                  <a:srgbClr val="ff388c"/>
                </a:solidFill>
                <a:latin typeface="Century Gothic"/>
              </a:rPr>
              <a:t>A guy by the last name Lumiere invented the first filming movie camera!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afd1"/>
                </a:solidFill>
                <a:latin typeface="Century Gothic"/>
              </a:rPr>
              <a:t>What was the first movie ever created?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88c"/>
                </a:solidFill>
                <a:latin typeface="Century Gothic"/>
              </a:rPr>
              <a:t>“ </a:t>
            </a:r>
            <a:r>
              <a:rPr b="0" lang="en-US" sz="2000" spc="-1" strike="noStrike">
                <a:solidFill>
                  <a:srgbClr val="ff388c"/>
                </a:solidFill>
                <a:latin typeface="Century Gothic"/>
              </a:rPr>
              <a:t>The Horse In Motion” by Eadweard Muybridge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afd1"/>
                </a:solidFill>
                <a:latin typeface="Century Gothic"/>
              </a:rPr>
              <a:t>When was the first movie camera invented? </a:t>
            </a:r>
            <a:r>
              <a:rPr b="0" lang="en-US" sz="2000" spc="-1" strike="noStrike">
                <a:solidFill>
                  <a:srgbClr val="ff388c"/>
                </a:solidFill>
                <a:latin typeface="Century Gothic"/>
              </a:rPr>
              <a:t>In the year 1888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afd1"/>
                </a:solidFill>
                <a:latin typeface="Century Gothic"/>
              </a:rPr>
              <a:t>How did the movie camera look? </a:t>
            </a:r>
            <a:r>
              <a:rPr b="0" lang="en-US" sz="2000" spc="-1" strike="noStrike">
                <a:solidFill>
                  <a:srgbClr val="ff5698"/>
                </a:solidFill>
                <a:latin typeface="Century Gothic"/>
              </a:rPr>
              <a:t>portable movie camera!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irst Permanent Photograph!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s photograph helped to shape the first motion picture movie camera by Lumier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38088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irst movie ever made was by Eadweard Muybridges entitled “The Horse In Motion”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s movie was created by a series of photographs placed together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9" name="Picture 3" descr="220px-Muybridge_Buffalo_galloping.gif"/>
          <p:cNvPicPr/>
          <p:nvPr/>
        </p:nvPicPr>
        <p:blipFill>
          <a:blip r:embed="rId2"/>
          <a:stretch/>
        </p:blipFill>
        <p:spPr>
          <a:xfrm>
            <a:off x="596880" y="4565520"/>
            <a:ext cx="2994120" cy="18417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220px-Muybridge_race_horse_animated.gif"/>
          <p:cNvPicPr/>
          <p:nvPr/>
        </p:nvPicPr>
        <p:blipFill>
          <a:blip r:embed="rId3">
            <a:grayscl/>
          </a:blip>
          <a:stretch/>
        </p:blipFill>
        <p:spPr>
          <a:xfrm>
            <a:off x="4648320" y="4419720"/>
            <a:ext cx="32353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entury Gothic"/>
              </a:rPr>
              <a:t>In The Year 1888, the first movie camera was invented! (film only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t was invented ,technically by many, but   Lumiere invented the first portable movie camera!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dissolve/>
    <p:sndAc>
      <p:stSnd>
        <p:snd r:embed="rId2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entury Gothic"/>
              </a:rPr>
              <a:t>December 21, 1893, a piece of technology that could film* and* project*!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wheel spokes="1"/>
    <p:sndAc>
      <p:stSnd>
        <p:snd r:embed="rId2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16" name="Content Placeholder 3" descr="movie-cameras-t9615.jpg"/>
          <p:cNvPicPr/>
          <p:nvPr/>
        </p:nvPicPr>
        <p:blipFill>
          <a:blip r:embed="rId2"/>
          <a:stretch/>
        </p:blipFill>
        <p:spPr>
          <a:xfrm>
            <a:off x="762120" y="1295280"/>
            <a:ext cx="4265640" cy="35593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" descr="C:\Documents and Settings\student\Local Settings\Temporary Internet Files\Content.IE5\YYWCRVEH\MC900012931[1].wmf"/>
          <p:cNvPicPr/>
          <p:nvPr/>
        </p:nvPicPr>
        <p:blipFill>
          <a:blip r:embed="rId3"/>
          <a:stretch/>
        </p:blipFill>
        <p:spPr>
          <a:xfrm>
            <a:off x="5562720" y="4572000"/>
            <a:ext cx="3124080" cy="18543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C:\Documents and Settings\student\Local Settings\Temporary Internet Files\Content.IE5\LE6A1KI1\MC900434799[1].png"/>
          <p:cNvPicPr/>
          <p:nvPr/>
        </p:nvPicPr>
        <p:blipFill>
          <a:blip r:embed="rId4"/>
          <a:stretch/>
        </p:blipFill>
        <p:spPr>
          <a:xfrm>
            <a:off x="3429000" y="48769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5" descr="C:\Documents and Settings\student\Local Settings\Temporary Internet Files\Content.IE5\N08N8BQD\MP900404910[1].jpg"/>
          <p:cNvPicPr/>
          <p:nvPr/>
        </p:nvPicPr>
        <p:blipFill>
          <a:blip r:embed="rId5"/>
          <a:stretch/>
        </p:blipFill>
        <p:spPr>
          <a:xfrm>
            <a:off x="380880" y="4952880"/>
            <a:ext cx="2743200" cy="17528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C:\Documents and Settings\student\Local Settings\Temporary Internet Files\Content.IE5\IW7E8QN5\MC900331651[1].wmf"/>
          <p:cNvPicPr/>
          <p:nvPr/>
        </p:nvPicPr>
        <p:blipFill>
          <a:blip r:embed="rId6"/>
          <a:stretch/>
        </p:blipFill>
        <p:spPr>
          <a:xfrm>
            <a:off x="6705720" y="380880"/>
            <a:ext cx="1904760" cy="37846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7" descr="C:\Documents and Settings\student\Local Settings\Temporary Internet Files\Content.IE5\BZVWRPDG\MC900232378[1].wmf"/>
          <p:cNvPicPr/>
          <p:nvPr/>
        </p:nvPicPr>
        <p:blipFill>
          <a:blip r:embed="rId7"/>
          <a:stretch/>
        </p:blipFill>
        <p:spPr>
          <a:xfrm>
            <a:off x="5105520" y="1752480"/>
            <a:ext cx="161280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entury Gothic"/>
              </a:rPr>
              <a:t>February 1895, a movie camera that combined a camera, projector and printer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entury Gothic"/>
              </a:rPr>
              <a:t>Charles Pathe thought to make a camera with both a projector and Kinetoscope!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4" name="Picture 3" descr="pathe28.jpg"/>
          <p:cNvPicPr/>
          <p:nvPr/>
        </p:nvPicPr>
        <p:blipFill>
          <a:blip r:embed="rId2"/>
          <a:stretch/>
        </p:blipFill>
        <p:spPr>
          <a:xfrm>
            <a:off x="1981080" y="3446640"/>
            <a:ext cx="3581640" cy="32590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  <p:sndAc>
      <p:stSnd>
        <p:snd r:embed="rId3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entury Gothic"/>
              </a:rPr>
              <a:t>In 1908 – Joseph Debrie-“LeParvo”-Newton Finder Eye Piece, rear of the camera featured a footage counter dial marked in feet, a cranking speed indicator marked by 16fps and 24 fps, and side panels were hinged to reveal a very impressive movement and two 400 feet co-axil metal film, there was an  eye piece with a diopter adjustment and an eye piece-trap cover, on the rear panel was a spirit level to level tripod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7" name="Picture 3" descr="parvo.jpg"/>
          <p:cNvPicPr/>
          <p:nvPr/>
        </p:nvPicPr>
        <p:blipFill>
          <a:blip r:embed="rId2"/>
          <a:stretch/>
        </p:blipFill>
        <p:spPr>
          <a:xfrm>
            <a:off x="4419720" y="3581280"/>
            <a:ext cx="2165400" cy="289584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9:53:48Z</dcterms:created>
  <dc:creator>student</dc:creator>
  <dc:description/>
  <dc:language>en-US</dc:language>
  <cp:lastModifiedBy>student</cp:lastModifiedBy>
  <dcterms:modified xsi:type="dcterms:W3CDTF">2010-09-23T19:26:01Z</dcterms:modified>
  <cp:revision>12</cp:revision>
  <dc:subject/>
  <dc:title>The Fresh Timeline of a Great Invention The Movie Camera By:Debra Simms</dc:title>
</cp:coreProperties>
</file>